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jpeg" ContentType="image/jpeg"/>
  <Override PartName="/ppt/media/image9.pct" ContentType="image/x-pict"/>
  <Override PartName="/ppt/media/image7.png" ContentType="image/png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2F1-A849-4EE1-898C-4B653CDF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2EF-A9E7-46AF-A056-D96F6287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103-E8B3-4557-85A8-5A00EA38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435-6915-4534-A6D8-D0B10E4E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313-B1B9-4D43-A3A9-C30CA1B2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8B8-F764-4A92-9BD2-2F3409F7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878-5AA2-4551-AC79-878E8693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E02-21D5-49FB-9302-7EF81A08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50A-149E-4F23-AA6B-831E4AFF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CE0-54FD-47AB-A5EF-53429E4A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8BD-326A-4C16-93C0-0B4A5E1B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106-F2BE-49C4-BBAA-F34BF62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CB14-27B1-4A3A-9913-39838ADA6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85800"/>
            <a:ext cx="82296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cc"/>
                </a:solidFill>
                <a:latin typeface="Times New Roman"/>
              </a:rPr>
              <a:t>Chapter 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9600" spc="-1" strike="noStrike">
                <a:solidFill>
                  <a:srgbClr val="ff0000"/>
                </a:solidFill>
                <a:latin typeface="Times New Roman"/>
              </a:rPr>
              <a:t>Building Health Skill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43434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9880" y="129528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464832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5240" y="175248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7960" y="548640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7960" y="30492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9240" y="22860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2133720"/>
          <a:ext cx="2262240" cy="22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133720"/>
                    <a:ext cx="226224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3049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Conflict Resolution Skil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438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cess of ending a conflict through cooperation and problem solving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191120"/>
            <a:ext cx="83818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ey: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respecting the other person’s rights as well as your 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teps to follow when dealing with a confli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447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ake time to calm down and think through the sit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8954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When discussing the conflict, speak calmly and listen attentively, asking questions when appropri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6483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Use a polite tone and try to brainstorm solutions where no one loses respect.  Work to resolve the conflict peacefu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22860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Self-Management Ski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447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-Practicing Healthful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438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-Managing S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505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ess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-the body’s and mind’s reactions to everyday dema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10552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tress management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-ways to deal with or overcome the negative effects of str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22860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Management Skill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rechanneling your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relax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laug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listening to soothing mu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engaging in physical 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1523880"/>
          <a:ext cx="2124000" cy="26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2124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Analyzing Influen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479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ternal influences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-your knowledge, values, likes,dislikes, and desi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20040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ternal influences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-family, friends, peer, environment, culture, laws, and med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92160" y="-32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853416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ccessing Reliable Health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-parents, guardians, and other trusted ad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-library resources-encyclopedia, nonfiction boo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Internet 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-newspaper and magazine articles by health professio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1317600" cy="126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5327640" cy="6426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80880"/>
            <a:ext cx="845820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Times New Roman"/>
              </a:rPr>
              <a:t>Lesson 2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cc"/>
                </a:solidFill>
                <a:latin typeface="Times New Roman"/>
              </a:rPr>
              <a:t>Making </a:t>
            </a:r>
            <a:r>
              <a:rPr b="1" i="1" lang="en-US" sz="7200" spc="-1" strike="noStrike" u="sng">
                <a:solidFill>
                  <a:srgbClr val="ff0000"/>
                </a:solidFill>
                <a:uFillTx/>
                <a:latin typeface="Times New Roman"/>
              </a:rPr>
              <a:t>Responsible</a:t>
            </a:r>
            <a:r>
              <a:rPr b="1" i="1" lang="en-US" sz="7200" spc="-1" strike="noStrike">
                <a:solidFill>
                  <a:srgbClr val="0000cc"/>
                </a:solidFill>
                <a:latin typeface="Times New Roman"/>
              </a:rPr>
              <a:t> Decisions and Setting Go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30492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cc"/>
                </a:solidFill>
                <a:latin typeface="Times New Roman"/>
              </a:rPr>
              <a:t>Making decisions about </a:t>
            </a: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MAJOR</a:t>
            </a:r>
            <a:r>
              <a:rPr b="0" i="1" lang="en-US" sz="6000" spc="-1" strike="noStrike">
                <a:solidFill>
                  <a:srgbClr val="0000cc"/>
                </a:solidFill>
                <a:latin typeface="Times New Roman"/>
              </a:rPr>
              <a:t> life issues must be done carefully and deliberately.  Approach with </a:t>
            </a: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CAUTION</a:t>
            </a:r>
            <a:r>
              <a:rPr b="0" i="1" lang="en-US" sz="6000" spc="-1" strike="noStrike">
                <a:solidFill>
                  <a:srgbClr val="0000cc"/>
                </a:solidFill>
                <a:latin typeface="Times New Roman"/>
              </a:rPr>
              <a:t> and </a:t>
            </a: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“look in all directions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380880"/>
            <a:ext cx="8382240" cy="62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Decision-Making Mod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cc"/>
                </a:solidFill>
                <a:latin typeface="Times New Roman"/>
              </a:rPr>
              <a:t>Designed to help you make decisions that will protect your rights, health, and self-respect while respecting the same for ot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04920"/>
            <a:ext cx="845820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sson 1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uilding Health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81080"/>
            <a:ext cx="84582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sson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aking Responsible Decisions and Setting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495680"/>
            <a:ext cx="8305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sson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uilding 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22860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08240" y="478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52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1:  State the Situation-what         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    decision needs to be ma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44792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2:  List the possible ch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2209680"/>
            <a:ext cx="88394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3:  Weigh the possible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8954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4:  Consider your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733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5:  Make a decision and take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                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" y="478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243400"/>
            <a:ext cx="84582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6:  Evaluate your dec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76520" y="533520"/>
          <a:ext cx="5632200" cy="56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533520"/>
                    <a:ext cx="5632200" cy="56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04920" y="152280"/>
            <a:ext cx="8610480" cy="76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Setting Go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Goal-something that you aim for that takes planning and work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Long term goals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long periods-sometimes months or even years to achie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83055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hort-term goals-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achieved fairly easily and in a short period of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ction plan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multi-step strategy for identifying and achieving goa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lect a goal to work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ist what you will do to reach the go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0574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dentify sources of help and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895480"/>
            <a:ext cx="8305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t a reasonable time frame for reaching your g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11480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stablish checkpoints to evaluate your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02080"/>
            <a:ext cx="77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ward yourself after reaching your g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89154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Lesson 3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i="1" lang="en-US" sz="7200" spc="-1" strike="noStrike">
                <a:solidFill>
                  <a:srgbClr val="0000cc"/>
                </a:solidFill>
                <a:latin typeface="Times New Roman"/>
              </a:rPr>
              <a:t>Building Charac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342900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haracter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those qualities that describe how a person thinks, feels, and beha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49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What is Good Charact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295280"/>
            <a:ext cx="8382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A person with good character demonstrates core ethical values, such as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responsibility, honesty, integrity, and respect. These values are held in high regard across all cultures and age group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304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Character and Heal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37160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Because your character plays a huge role in your decisions, actions, and behavior, it impacts all aspects of your heal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30492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Traits of Good Charac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2952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Trustworthi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98108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Resp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27432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Responsi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429000"/>
            <a:ext cx="7086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Fair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2670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C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0292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Citizen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808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Developing Your Charac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4479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Stand up for your belief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243828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Learn from people who demonstrate good character tra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952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Join volunteer groups in your school or commun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22860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Positive Role Mode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52388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Someone whose success or behavior serves as an example for oth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16000"/>
            <a:ext cx="8458200" cy="66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Lesson 1:</a:t>
            </a: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Building Health Ski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Health Skills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specific tools and strategies that help you maintain, protect, and improve all aspects of your heal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akes </a:t>
            </a: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time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nd     </a:t>
            </a: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562720" y="4495680"/>
          <a:ext cx="1915920" cy="218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4495680"/>
                    <a:ext cx="191592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3808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Demonstrating Good Charac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5146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Make a difference at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657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Make a difference at scho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7242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Make a difference in your commun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terpersonal Commun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75248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exchange of thoughts, feelings, and beliefs between two or more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4114800" cy="2674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853416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terpersonal Skill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clearly say what you me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pay attention to how you say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be a good listen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be aware of facial expressions and gest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304920"/>
            <a:ext cx="86868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Refusal Skills-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echniques that can help you refuse when you are urged to take part in unsafe or unhealthful behaviors.  Includ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8862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1.  Say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“NO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638680" y="4724280"/>
            <a:ext cx="3175200" cy="1765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09480"/>
            <a:ext cx="8458200" cy="37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2.  Explain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why</a:t>
            </a: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 you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are refusing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4290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3. Suggest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alternatives</a:t>
            </a: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 to the proposed activi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292104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"/>
            <a:ext cx="8839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4.  Back up your words using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body languag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505320"/>
            <a:ext cx="8763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5. 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 if necessar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3049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28600"/>
            <a:ext cx="8534520" cy="65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Social Health Skill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effective communicator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Being able to express your knowledge, beliefs, and ideas in many ways.  Includes the ability to sa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01:24:52Z</dcterms:created>
  <dc:creator>Beth M. Little</dc:creator>
  <dc:description/>
  <dc:language>en-US</dc:language>
  <cp:lastModifiedBy>Chatham County Schools</cp:lastModifiedBy>
  <dcterms:modified xsi:type="dcterms:W3CDTF">2006-08-30T17:22:22Z</dcterms:modified>
  <cp:revision>63</cp:revision>
  <dc:subject/>
  <dc:title>No Slide Title</dc:title>
</cp:coreProperties>
</file>